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EA00-A0F4-4912-85A7-AE149579A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8CA6-A209-49E2-A76D-29782C37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141A-C33B-40DC-A870-B933EE045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1594-1CAF-49E5-B2AC-8579F6E2F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B3F0-5A9B-4943-91C3-9F2F704C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B094-9ACE-45A9-85CC-35FD8C5D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4A84-02ED-443C-B055-A6F3ED15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614B-B108-404E-BE43-5730040A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1112-3DDD-4897-996B-F57DCCB6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388F-B883-4B26-812B-588BB1CB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8A89-320A-4FF6-9365-66BD1D60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B5D7-B04D-4DBF-8E65-AD08B969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60C8-41C7-4455-ADAE-595364877E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1457280" y="208080"/>
            <a:ext cx="6338880" cy="1103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http://www.socialpicks.com/photo/name/3348/money.jpg"/>
          <p:cNvPicPr/>
          <p:nvPr/>
        </p:nvPicPr>
        <p:blipFill>
          <a:blip r:embed="rId2"/>
          <a:stretch/>
        </p:blipFill>
        <p:spPr>
          <a:xfrm>
            <a:off x="2971800" y="182880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elocit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locity- indicates the number of times per year that an “average dollar” is spent on goods and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= Nominal GDP/Money Supp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quation of exchange- M x V = P x 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antity theory of money assumes that velocity is approximately constant. In that case, nominal GDP is proportional to the money st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etarist Approach to Velo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believe that velocity can be predicted, so they can use the model of M x V = P x Y. So if they can control M and predict V, they can predict nominal GD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locity is predictable, certainly in the long run, probably in the short r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ed Control of Money Supply &amp; i r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fed controls money supply to affect interest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they use expansionary monetary policy, they will buy bonds on the open market, increasing the money supply and decreasing interest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they use contractionary monetary policy, they will sell bonds on the open market, decreasing the money supply and increasing interest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y can also use the FFR which is the basis for the prime rate which is the interest rate given to best custom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ffects of Quantity of Money Supplied Chan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quantity of money supplied goes down, interest rates go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quantity of money supplied goes up, interest rates go 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interest rates go up, then I goes down, AD goes down, and GDP goes 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interest rates go down, then I goes up, AD goes up, and GDP goes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10:18Z</dcterms:created>
  <dc:creator>sth_user</dc:creator>
  <dc:description/>
  <dc:language>en-US</dc:language>
  <cp:lastModifiedBy>HP Authorized Customer</cp:lastModifiedBy>
  <dcterms:modified xsi:type="dcterms:W3CDTF">2009-01-27T22:30:07Z</dcterms:modified>
  <cp:revision>7</cp:revision>
  <dc:subject/>
  <dc:title>Slide 1</dc:title>
</cp:coreProperties>
</file>